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12786-11D1-4059-BE39-DA77CAB225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0F49B-72A2-4769-89E0-0C9FFA5F05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FB54-834E-4A8A-ADA7-EB390D484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692B-F01F-4CFD-921C-31F08B999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A678-DD4C-470D-99CE-DDEC7EAA7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9865-526F-4B1E-BE1A-97E5E9EF0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C5C4-DBB2-4DFE-8F0C-E174C940E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DB5E-C8D7-49E9-931D-A24F4EA72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4B47-E188-417D-8B87-4366B5FEA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C9D2-56DA-44BE-8510-6ACF16E5E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86A6-B5CD-4BE1-99A7-77A5B6E4B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77C1-B363-4F3D-93F5-7CE11DF2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F4AA-52FD-48E4-AC7C-410050AF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F918-2FC4-413B-8125-CA819D7E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28D06-8178-4DDF-84BF-9692A26062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rke County School Distri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lture Surv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914400" y="541008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ed from “Discovering An Organization’s Culture” by Dr. Wally Schmidt, Rollins Colle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vity -- the organization’s emphasis on quality and inno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 Employees are encouraged to be crea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  New ideas are encourag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.  Most employees are bright and capable of quality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.  Innovation and change are encourag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.  Divisions/departments provide exciting challenges and opportunities for grow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vit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bined in 06: Neut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loyees are encouraged to be creative.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77.5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ideas are encouraged.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82.5%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employees are bright and capable of quality work.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95%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novation and change are encouraged.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77.5%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.  Divisions/departments provide exciting challenges and opportunities for growth.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77.5%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amwork -- the ability to work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 Competition among employees and between departments is discourag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  Groups work well toge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.  Employees help each 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.  Supervisors cooperate with one an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.  Competition among employees is handled fairly and constructive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amwork -- the ability to work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11480" indent="-4114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etition among employees and between departments is discouraged.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69.2 %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s work well together.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80%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loyees help each other.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92.5%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visors cooperate with one another.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80%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.  Competition among employees is handled fairly and constructively.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81.6%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azing Chang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factors that have made a differe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account for the amazing chang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ve Areas to Exam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-- how the system is organ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sion Making -- who is involved and how effective are their cho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ion -- the degree of commitment among leaders, employees, and sta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ivity -- the organization’s emphasis on quality and inno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mwork -- the ability to work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 Lea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= 1.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sion Making = 1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ion = 2.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ivity = 2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mwork =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l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-1 Neg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3 Neut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-5 Po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ucture -- how the system is organiz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Lines of responsibility are clear and easy to underst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 Jobs and services are clearly defin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  The services and divisions/departments of the company are organized effective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.  Task scheduling is well organiz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.  Procedures, services, and systems are well organiz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uc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bined in 06: Negative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s of responsibility are clear and easy to understand.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75% -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bs and services are clearly defined.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50% True / 50% 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rvices and divisions/departments of the company are organized effectively.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73.7%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 scheduling is well organized.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60%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1.  Procedures, services, and systems are well organized.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61.5%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cision Making -- who is involved and how effective are their cho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Employees can influence decisions that affect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  The administration makes effective deci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  Information is readily available to help make deci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.  Decisions are made in a timely fash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.  Grievances and problems are well handl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cision Mak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bined in 06: Low Neutra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loyees can influence decisions that affect them.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82.1%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dministration makes effective decisions.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82.5%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is readily available to help make decisions.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71.8%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sions are made in a timely fashion.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62.5%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2.  Grievances and problems are well handled.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76.3%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-- the degree of commitment among leaders, employees, and sta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Supervisors, employees, and staff are interested in their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  Supervisors are excited about their jobs and encourage employee develop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.  Employees are committed to excell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.  Supervisors are committed to excell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.  The administrators and supervisors encourage an environment in which employees want to succe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iva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bined in 06: Neut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visors, employees, and staff are interested in their work.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97.5 %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visors are excited about their jobs and encourage employee development.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82.1%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loyees are committed to excellence.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87.2%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visors are committed to excellence.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85%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3.  The administrators and supervisors encourage an environment in which employees want to succeed.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90%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19:21:04Z</dcterms:created>
  <dc:creator>Randall Dobbs User</dc:creator>
  <dc:description/>
  <dc:language>en-US</dc:language>
  <cp:lastModifiedBy>Randall Dobbs User</cp:lastModifiedBy>
  <dcterms:modified xsi:type="dcterms:W3CDTF">2009-09-10T13:25:17Z</dcterms:modified>
  <cp:revision>9</cp:revision>
  <dc:subject/>
  <dc:title>Clarke County School District</dc:title>
</cp:coreProperties>
</file>